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-360" y="0"/>
            <a:ext cx="66690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BBF4-C78E-4DDB-A9F0-E051FC4F103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독일의 슈탈을 비롯한 당시 화학자들은 모든 물질은 플로지스톤이라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물질적이며 무게를 잴 수 없는 불의 원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내부에 포함하고 있다고 생각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착한 마음의 정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름다움의 정도를 무게로 잴 수 없는 것처럼 플로지스톤 역시 잴 수 없는 원리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기 반 헬몬트에 의해 가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gas 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라는 용어가 도입된 이래 기체의 물리적 성질에 대해서 보일과 후크 등의 연구가 있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Robert Boyle, 1627- 1692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66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에 실험을 통해 쥐의 생명을 유지하는 데 신선한 공기가 필수적임을 보여 주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쥐를 넣은 용기를 밀폐시켰더니 쥐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간 만에 죽었고 다시 그 용기에 다른 쥐를 넣었더니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분만에 죽은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러나 보일은 호흡의 목적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바람이 체표면의 물을 말리는 것처럼 혈액 중에서 배설되는 휘발성 증기를 공기와 결합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association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켜 외부로 가지고 나오는 것이라고 생각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리고 이 휘발성 증기는 물질이 탈 때 나오는 검댕이나 연기와 마찬가지로 동물이 생명을 유지하지 못하도록 방해한다는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일의 결론은 한번 호흡에 사용된 공기는 적어도 같은 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species 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호흡에는 사용될 수 없다는 것이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67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메이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John Mayow, 1645- 1679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연소와 호흡 모두 공기 중에 있는 어떤 성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nitro aerial particle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필요로 한다는 사실을 실험적으로 증명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 속에 거꾸로 세워 놓은 유리 용기 안에 두었을 때 촛불은 곧 꺼졌고 쥐도 곧 죽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촛불과 쥐를 같이 넣자 쥐는 훨씬 더 빨리 죽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이요는 쥐가 촛불에서 나온 연기에 의해 질식하는 것이 아님을 분명히 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헤일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Stephen Hales , 1677- 1761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의해 기체를 분리해서 분석하는 것이 가능하게 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헤일즈는 개방형 압력계와 기체수집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pneumatic trough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화학에 도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(1727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영국의 의사로 나중에 에딘버러 대학의 화학 교수가 된 조셉 블랙은 석회석을 가열하면 기체가 많이 생긴다는 것을 알고 그것에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고정된 기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라는 이름을 붙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석회석이라는 돌덩어리에서 나오는 기체니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것은 고체 속에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고정되었다가 나온 기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라는 뜻으로 그런 이름을 붙인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그는 그것이 호흡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효 시에 생성된다는 사실을 발견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블랙은 따라서 호흡과 연소가 동일한 현상이며 폐에서 일어나는 연소 작용이 동물열의 원천이라 추측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67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대 보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1627-1691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비롯한 몇몇 영국 화학자들은 물질이 썩을 때나 철과 산을 반응시킬 때 기포를 내며 나오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에 잘 타는 공기에 관한 기록을 남기고 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776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영국의 귀족 헨리 캐번디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1731-1810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처음으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연성 공기‘를 모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철 등에 묽은 황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염산 등을 반응시켜 이 가연성 공기를 얻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는 서로 다른 금속과 산들의 반응에서 발생하는 가연성 공기가 모두 동일하다는 점과 이 공기의 밀도가 보통 공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다 매우 작다는 점을 발견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캐번디시는 이 결과를 왕립학회에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공의 공기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라는 제목으로 발표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는 처음에 수소를 가연성과 관계있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플로지스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라고 생각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리스틀리는 요즈음 우리가 여름이면 즐겨 찾는 청량 음료를 처음 발명한 과학자이기도 하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탄산가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 그때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고정된 기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알려졌던 기체에 압력을 가해 물에 녹여 넣으면 천연 광천수처럼 거품이 나는 물이 된다는 것을 처음 알아낸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발명으로 그는 영국 왕립 학회의 가장 영광스런 명예라 할 수 있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플리 메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받기도 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리스틀리는 이 공기 안에서 불꽃이 더 밝고 뜨겁게 타오르며 생쥐가 일반 공기에서보다 두 배 이상 오래 살 수 있음을 발견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공기는 플로기스톤이 없으므로 가연성 물질에 포함된 플로기스톤과 쉽게 결합하여 연소 현상을 일으킨다는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4FF-2CDB-4E53-93BF-4EB3B5C7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64E-B7B3-4A4C-8F64-864EF929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9F9-9D85-47F1-98D5-E7B224AA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08C-4971-4A92-8F3A-39BFD1C2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9AF9-6818-46FF-9575-1A3F5255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9B18-EF62-42DD-8193-E8A41893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F7AC-8CA5-43E4-A6A2-53DC4D45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BC2D-FD69-482D-8C77-A3FC6506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CFD5-A793-406A-9B66-194A83F6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4E87-74F0-4244-9240-79C1F62F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FD50-44FD-4C03-9701-B9C6FB5A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C60-021E-41B7-AD1B-69543712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FBF3-CCA6-4883-877B-49E6757C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43F8-9BD7-44A1-9375-554A5AA3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A7FD-2FC4-447E-9E12-B8ADC1D4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BCEE-A60D-4385-9F57-A00FC4DC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2C42-8F9C-4C4B-A330-B99B16D3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98B-E7AC-4E89-B7C4-B067F6B4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AFA-2AFB-47CE-BC27-26A43F9F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D8F-1D47-4F25-B94F-77CC4CC9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EDC-4B13-4C65-A338-33D459FD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E6E-E626-4F89-BC84-EC4BC6C4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E52-C785-4702-8784-6D230623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B0C-B613-4808-945F-93E8E7EA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0AD4-58F2-4B32-9ED7-6253F852D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B287-3F7E-4675-B791-DA8416C42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vantGarde Bk BT"/>
              </a:rPr>
              <a:t>화학혁명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84836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254400" cy="21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00720" y="981000"/>
            <a:ext cx="3816360" cy="1830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476360" y="4221000"/>
            <a:ext cx="2808360" cy="2438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356000" y="4292640"/>
            <a:ext cx="3889440" cy="1865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2924280"/>
            <a:ext cx="849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He heated mercury and air using a bell-jar for 12 days.  Red mercury calx (HgO) formed and the volume of air decreased from 50 to 42 in</a:t>
            </a:r>
            <a:r>
              <a:rPr b="0" lang="ko-KR" sz="1800" spc="-1" strike="noStrike" baseline="30000">
                <a:solidFill>
                  <a:srgbClr val="000000"/>
                </a:solidFill>
                <a:latin typeface="AvantGarde Bk B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.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The red [HgO] was heated in a retort producing 8 in</a:t>
            </a:r>
            <a:r>
              <a:rPr b="0" lang="ko-KR" sz="1800" spc="-1" strike="noStrike" baseline="30000">
                <a:solidFill>
                  <a:srgbClr val="000000"/>
                </a:solidFill>
                <a:latin typeface="AvantGarde Bk B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 of dephlogisticated air [O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AvantGarde Bk B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].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라부아지에의 화학연구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2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산소 연소 이론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무게 분석을 통한 수은 연소 실험 이해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반응에 관여한 물질들의 총 양은 항상 보존된다는 신조</a:t>
            </a: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저울</a:t>
            </a: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(balance) &amp; </a:t>
            </a: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대차대조표</a:t>
            </a: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(balance sheet)</a:t>
            </a: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로 구현 </a:t>
            </a: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&amp; </a:t>
            </a: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입증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 가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통 안의 공기 감소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재 생성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무게 증가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⇒ 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공기 중의 무언가’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 수은재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재 가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통 안에 공기 생성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 생성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무게 감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⇒ 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재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 수은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새로운 공기’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새로운 공기’가 비금속물질들과 반응해 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acid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를 만든다는 데서 착안해서 ‘산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oxigen)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라 명명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라부아지에의 산소 연소 이론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연소할 때 무언가가 대기 속으로 방출되는 것이 아니라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오히려 대기에서 흡수된다는 발상의 전환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연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하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물질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산소’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[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즉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연소는 산소와의 화학결합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연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호흡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산화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환원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염기 등의 이론 통일 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라부아지에의 화학연구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3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화학의 체계화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&lt;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화학원론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&gt; 1789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플로지스톤 이론 폐기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 산소 연소 이론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체계적인 원소 및 화합물 명명법의 도입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원소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(element): “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지금까지 알려진 방식으로 분리되지 않은 기본 물질”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33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종에 대해 새롭게 명명하고 재분류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수소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가연성 공기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),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질소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나빠진 공기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),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산소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플로지스톤 없는 공기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불의 공기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),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빛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칼로릭 등</a:t>
            </a:r>
            <a:endParaRPr b="0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336699"/>
                </a:solidFill>
                <a:latin typeface="AvantGarde Bk BT"/>
              </a:rPr>
              <a:t>	</a:t>
            </a:r>
            <a:r>
              <a:rPr b="0" lang="ko-KR" sz="1900" spc="-1" strike="noStrike">
                <a:solidFill>
                  <a:srgbClr val="336699"/>
                </a:solidFill>
                <a:latin typeface="AvantGarde Bk BT"/>
              </a:rPr>
              <a:t>※ “</a:t>
            </a:r>
            <a:r>
              <a:rPr b="0" lang="ko-KR" sz="1900" spc="-1" strike="noStrike">
                <a:solidFill>
                  <a:srgbClr val="336699"/>
                </a:solidFill>
                <a:latin typeface="AvantGarde Bk BT"/>
              </a:rPr>
              <a:t>물은 산소와 수소의 화합물” 주장</a:t>
            </a:r>
            <a:r>
              <a:rPr b="0" lang="ko-KR" sz="1900" spc="-1" strike="noStrike">
                <a:solidFill>
                  <a:srgbClr val="336699"/>
                </a:solidFill>
                <a:latin typeface="AvantGarde Bk BT"/>
              </a:rPr>
              <a:t>!</a:t>
            </a:r>
            <a:endParaRPr b="0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화합물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관용명 대신 구성 원소에 따라 명명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아연 꽃 </a:t>
            </a:r>
            <a:r>
              <a:rPr b="0" lang="ko-KR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 산화아연</a:t>
            </a:r>
            <a:endParaRPr b="0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화학반응은 곧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구성 원소 사이의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방정식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무게에서 대수적 등식 관계가 성립하듯 반응물과 생성물의 구성 원소 사이에도 등식이 성립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무게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온도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압력 변화를 측정하는 정량적인 실험 방법 정립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독일의 분석화학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영국의 기체화학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프랑스의 조직적 연구 전통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803320" cy="618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76720" y="228600"/>
            <a:ext cx="2698560" cy="424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248520" y="304920"/>
            <a:ext cx="2465280" cy="4038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352680" y="4572000"/>
            <a:ext cx="56390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물 합성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분해 실험 논쟁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1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배경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라부아지에에 대한 화학자들의 일반적인 반응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화학반응 과정에서 성질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모양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색깔 등등이 다 바뀌는데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무게라고 바뀌지 못한다는 법이 어디 있는가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용기를 통과할 수 있는 다른 존재자들이 무게에 영향을 줄 수도 있지 않겠는가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무게 변화 문제를 해결하는 한가지 대안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타고 있는 물체에서 빠져 나온 플로지스톤은 대기 중의 플로지스톤 없는 공기와 결합하여 고정된 공기를 형성하고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고정된 공기가 고체 잔여물과 화학적으로 결합해서 금속회나 산 형성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(Kirwan, 1784) → 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플로지스톤의 존재를 유지하면서도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무게 증가 문제 해결 가능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물 합성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분해 실험 논쟁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2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발단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캐븐디쉬의 물 합성 실험 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(1781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년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가연성 공기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수소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와 플로지스톤 없는 공기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산소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의 혼합물에 전기 불꽃을 일으켜 물을 만들어 냄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물은 가연성 공기와 플로지스톤 없는 공기의 혼합물 중 ‘일부’로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일종의 응축 반응을 통해 혼합물에서 분리된 것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라부아지에의 정밀 측정 실험과 재해석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물은 두 기체가 결합했을 때 나오는 유일한 산물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AvantGarde Bk BT"/>
              </a:rPr>
              <a:t>증명</a:t>
            </a:r>
            <a:r>
              <a:rPr b="0" lang="ko-KR" sz="26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0" lang="ko-KR" sz="2600" spc="-1" strike="noStrike">
                <a:solidFill>
                  <a:srgbClr val="cc0000"/>
                </a:solidFill>
                <a:latin typeface="AvantGarde Bk BT"/>
              </a:rPr>
              <a:t>소비된 두 기체의 무게 </a:t>
            </a:r>
            <a:r>
              <a:rPr b="0" lang="ko-KR" sz="2600" spc="-1" strike="noStrike">
                <a:solidFill>
                  <a:srgbClr val="cc0000"/>
                </a:solidFill>
                <a:latin typeface="AvantGarde Bk BT"/>
              </a:rPr>
              <a:t>= </a:t>
            </a:r>
            <a:r>
              <a:rPr b="0" lang="ko-KR" sz="2600" spc="-1" strike="noStrike">
                <a:solidFill>
                  <a:srgbClr val="cc0000"/>
                </a:solidFill>
                <a:latin typeface="AvantGarde Bk BT"/>
              </a:rPr>
              <a:t>생성된 물의 무게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따라서 물은 원소가 아니라 화합물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(compound)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물 합성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분해 실험 논쟁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3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전개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라부아지에에 대한 비판자들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현상적 사실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이론적 해석 구분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해석 부분 기각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물 합성 실험에 대한 제임스 와트의 대안적 해석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플로지스톤 없는 공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플로지스톤이 제거된 물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잠열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가연성 공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플로지스톤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약간의 물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잠열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두 기체의 혼합 → 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플로지스톤이 포함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물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열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무게 관계식은 반응에 참여한 요소들을 모두 포함하지 않을 수 있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다시 말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무게 관계식에서는 반응에 참여한 플로지스톤이나 열과 같은 구성요소가 빠지게 됨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따라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무게 관계식으로는 “물이 화합물이다”라고 증명할 수 없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물 합성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분해 실험 논쟁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4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절정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라부아지에의 물 분해 실험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1784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년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증기를 새빨갛게 달아오른 철제 포신에 통과시킴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증기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철 →  산화철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가연성 공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증기 무게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=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포신의 무게 증가량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채집된 공기 무게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소의 무게는 부피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비중으로 계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결과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물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1.0000000 =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생명의 공기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0.86866273 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가연성 공기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0.13133727 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단위는 파운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프리스틀리의 비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물과 금속의 결합에 의해 플로지스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가연성 공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이 철에서 치환된 것이라 주장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즉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가연성 공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의 출처는 물이 아니라 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물 합성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분해 실험 논쟁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5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대규모 시연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1785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년 대규모 정밀 시연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많은 수의 프랑스 화학자들이 라부아지에의 주장에 설득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물의 구성성분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=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산소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: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수소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=85:15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널리 퍼짐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정확한 측정을 통해 정확한 논증에 성공했다고 자평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가연성 공기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15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그레인과 생명의 공기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85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그레인을 함께 태워 정확히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100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그레인의 물을 얻고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분해의 방법으로 동일한 원소들을 똑같은 비율로 되찾을 수 있다는 것을 보고 나서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어떻게 그 이론을 의심할 수 있겠는가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?” (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라부아지에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, 1787)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그러나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여전히 남아있는 비판자들…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물 합성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분해 실험 논쟁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6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비판자들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현상적 사실과 해석은 별개의 문제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여전히 라부아지에의 이론에 대한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정밀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대안적 가설 가능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가설’을 ‘사실’이라 주장하는 것은 ‘독단주의’와 다르지 않음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정밀 측정”은 사실과 해석 사이에 다리를 놓아줄 수 없음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줄어든 재연가능성의 문제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과학의 민주성 저해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다루기 어렵고 값비싼 실험기구가 실험의 반복 재연 방해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재연’의 가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민주적이고 평등한 과학 문화의 전형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프리스틀리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허용 한계를 벗어난 과장된 정밀성의 문제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E.g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소의 비중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= 35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그레인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/810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인치</a:t>
            </a:r>
            <a:r>
              <a:rPr b="0" lang="ko-KR" sz="2200" spc="-1" strike="noStrike" baseline="30000">
                <a:solidFill>
                  <a:srgbClr val="000000"/>
                </a:solidFill>
                <a:latin typeface="AvantGarde Bk BT"/>
              </a:rPr>
              <a:t>3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 =</a:t>
            </a:r>
            <a:r>
              <a:rPr b="0" lang="ko-KR" sz="2200" spc="-1" strike="noStrike" baseline="30000">
                <a:solidFill>
                  <a:srgbClr val="000000"/>
                </a:solidFill>
                <a:latin typeface="AvantGarde Bk BT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0.0432098765 ??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유효숫자의 문제 지적 → “충분히 정확한” 정도에서 소수점 잘라야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화학혁명이란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왜 ‘혁명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Revolution’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인가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산소 연소 이론’이 기존의 ‘플로지스톤 이론’을 대체한 사건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내용적으로 두 이론은 서로 정반대였기 때문에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혁명적 변화라 평가됨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화학혁명의 의미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화학 원소의 세가지 물리적 상태를 명확히 규정할 수 있게 됨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화학변화의 물리적 조건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온도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온도계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무게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화학저울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압력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압력계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산소 발견을 중심으로 화학 이론 체계의 전반적 변화가 진행됨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합리적이고 체계적인 원소 명명법의 도입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화학혁명의 배경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: 18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세기 화학의 선진 지역은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독일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광업의 발달로 인해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금속학을 비롯한 ‘</a:t>
            </a:r>
            <a:r>
              <a:rPr b="1" lang="ko-KR" sz="2000" spc="-1" strike="noStrike" u="sng">
                <a:solidFill>
                  <a:srgbClr val="cc0000"/>
                </a:solidFill>
                <a:uFillTx/>
                <a:latin typeface="AvantGarde Bk BT"/>
              </a:rPr>
              <a:t>분석화학’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 발전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영국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여러 기체들을 분리하고 그 성질에 관해 연구하는 ‘</a:t>
            </a:r>
            <a:r>
              <a:rPr b="1" lang="ko-KR" sz="2000" spc="-1" strike="noStrike" u="sng">
                <a:solidFill>
                  <a:srgbClr val="cc0000"/>
                </a:solidFill>
                <a:uFillTx/>
                <a:latin typeface="AvantGarde Bk BT"/>
              </a:rPr>
              <a:t>기체화학’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 발전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화학혁명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두 전통이 프랑스의 </a:t>
            </a:r>
            <a:r>
              <a:rPr b="1" lang="ko-KR" sz="2000" spc="-1" strike="noStrike" u="sng">
                <a:solidFill>
                  <a:srgbClr val="cc0000"/>
                </a:solidFill>
                <a:uFillTx/>
                <a:latin typeface="AvantGarde Bk BT"/>
              </a:rPr>
              <a:t>라부아지에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에 의해서 통합됨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물 합성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분해 실험 논쟁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7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결말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1790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년대 많은 수의 영국 화학자들 전향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그러나 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...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올바른 논증의 직접적인 힘이 사람들을 전향하게 만드는 경우는 거의 없다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하지만 자신들의 적들을 논박하려고 그들의 주장을 되풀이하면서 간접적인 방식으로 변화한다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.” (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니콜슨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1788)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라부아지에식의 정확성을 그대로 수용한 것은 아님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오히려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정확성의 한계에 대한 인식 생겨남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화학혁명의 배경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1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독일의 분석화학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슈탈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1660-1734)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의 플로지스톤 이론 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물질이 ‘연소’하거나 ‘하소’할 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질량과 부피가 감소하는 듯한 현상 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모든 가연성 물질에는 ‘플로지스톤’이라는 물질이 포함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연소는 물질에서 플로지스톤이 빠져나가면서 일어나는 현상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연소현상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나무 </a:t>
            </a:r>
            <a:r>
              <a:rPr b="0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플로지스톤 방출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) </a:t>
            </a:r>
            <a:r>
              <a:rPr b="0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숯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하소현상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쇠 </a:t>
            </a:r>
            <a:r>
              <a:rPr b="0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플로지스톤 방출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) </a:t>
            </a:r>
            <a:r>
              <a:rPr b="0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녹슨 쇠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불타는 초를 유리병으로 덮으면 불이 꺼지는 이유는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유리병 속의 공기에 플로지스톤이 포화 상태로 축적되어 더 이상 물질 속의 플로지스톤이 방출될 수 없기 때문 </a:t>
            </a:r>
            <a:r>
              <a:rPr b="0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 오늘날의 산소 연소 이론과는 정반대 설명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플로지스톤 이론은 다양한 현상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연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식물의 성장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소화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호흡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금속의 융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에 관한 일관적 설명을 제공함으로써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18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세기 화학의 튼튼한 이론적 틀을 제공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화학혁명의 배경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2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영국의 기체화학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스코틀랜드의 기체화학 연구 전통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공기를 분리하고 그 성질을 측정하는 실험 기술 발달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헤일즈의 개방형 압력계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기체수집기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(1727)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조지프 블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1756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년 ‘고정된 공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fixed air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이산화탄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’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발견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 공기가 단일한 물질이라는 전통적인 관념이 무너지는 계기 마련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18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세기 발견된 새로운 공기들 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고정된 공기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이산화탄소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):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호흡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연소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발효 시에 생성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가연성 공기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수소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):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탈 수 있는 기체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플로지스톤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?? (1776)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나빠진 공기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질소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초석의 공기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일산화 탄소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불의 공기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생명의 공기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산소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) (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쉘레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프리스틀리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프리스틀리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(1733-1804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영국의 화학자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목사 겸 대중 과학 강연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정치적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·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종교적으로 급진적 성향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타당성이 점차 의심되고 있었던 플로지스톤 이론의 약한 고리를 땜질하고 개량해나갔던 인물 </a:t>
            </a:r>
            <a:r>
              <a:rPr b="0" lang="ko-KR" sz="22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 마지막까지 새로운 화학 이론을 받아들이지 않았음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프리스톨리의 수은재 실험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재를 고온 가열하여 수은과 ‘새로운 공기’를 얻어낸 실험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프리스틀리의 플로지스톤 이론에 입각한 해석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수은재 </a:t>
            </a:r>
            <a:r>
              <a:rPr b="0" lang="ko-KR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 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(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공기 중의 플로지스톤 결합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) </a:t>
            </a:r>
            <a:r>
              <a:rPr b="0" lang="ko-KR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 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수은 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+ 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플로지스톤 없는 공기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플로지스톤 없는 공기’의 성질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이 공기 속에서는 연소가 훨씬 활발하게 일어남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이 공기가 든 유리종 속에 쥐를 가두면 훨씬 오래 살 수 있음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99" name="" descr="Click for larger picture!"/>
          <p:cNvPicPr/>
          <p:nvPr/>
        </p:nvPicPr>
        <p:blipFill>
          <a:blip r:embed="rId2"/>
          <a:stretch/>
        </p:blipFill>
        <p:spPr>
          <a:xfrm>
            <a:off x="6659640" y="0"/>
            <a:ext cx="16984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2" name="" descr="John Priestley's Mouse Experiment"/>
          <p:cNvPicPr/>
          <p:nvPr/>
        </p:nvPicPr>
        <p:blipFill>
          <a:blip r:embed="rId2"/>
          <a:stretch/>
        </p:blipFill>
        <p:spPr>
          <a:xfrm>
            <a:off x="468360" y="115920"/>
            <a:ext cx="3887640" cy="3095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0" y="692280"/>
            <a:ext cx="4300560" cy="5707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79280" y="3213000"/>
            <a:ext cx="42483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라부아지에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1743-1794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5761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18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세기 프랑스의 신흥 부르주아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징세청부업자 겸 권위있는 과학자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자칭 물리학자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물리학의 방법을 화학에 적용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&lt;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프린키피아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&gt;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의 확실성과 예측력 본받기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정량화 정신”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정밀 측정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수학적 형식화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무게 분석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(Gravimetric Analysis)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방법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반응 전후 반응물과 생성물의 무게 측정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비교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물 합성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분해 실험에서 기체의 무게까지 측정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고가의 실험장비 필요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1789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년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&lt;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화학원론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&gt;: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화학 지식 체계화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프랑스 혁명기 단두대에서 처형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7" name="" descr="Lavoisier (17 ko)"/>
          <p:cNvPicPr/>
          <p:nvPr/>
        </p:nvPicPr>
        <p:blipFill>
          <a:blip r:embed="rId2"/>
          <a:stretch/>
        </p:blipFill>
        <p:spPr>
          <a:xfrm>
            <a:off x="6516720" y="1268280"/>
            <a:ext cx="2181240" cy="2660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[Engraving]"/>
          <p:cNvPicPr/>
          <p:nvPr/>
        </p:nvPicPr>
        <p:blipFill>
          <a:blip r:embed="rId3"/>
          <a:stretch/>
        </p:blipFill>
        <p:spPr>
          <a:xfrm>
            <a:off x="6156360" y="4292640"/>
            <a:ext cx="28116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01640" y="333360"/>
            <a:ext cx="5940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라부아지에의 화학연구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1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연구과정 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1760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년대 말부터 화학연구에 몰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1772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년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물질 연소 시 무게 증가 현상 발견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1773-74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년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수은재 실험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 가열하면 수은재 생성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의 무게 증가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에 있던 플로지스톤을 잃는 것이 아닐 것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!”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공기 중의 특정 성분이 수은과 결합하여 수은재가 형성된다고 확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그렇다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도대체 이 공기 중의 이 특정 기체는 무엇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1774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년 프리스틀리의 파리 방문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프리스틀리의 ‘플로지스톤 없는 공기’가 바로 그 기체임을 확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이 공기의 존재를 자신의 무게 측정 방법을 통해 재차 확인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7-07-18T07:10:09Z</dcterms:modified>
  <cp:revision>38</cp:revision>
  <dc:subject/>
  <dc:title>중세 유럽의 과학</dc:title>
</cp:coreProperties>
</file>